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F56F-33BB-41A3-99D2-960E2C44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4A9D-00FA-4BE8-B828-115627D4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751E-B80A-4BAA-8DA2-7B41CE5D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14FF-B12D-4226-AA64-6EAE5AF9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7DA4-B4CF-47E5-8513-7F026B5C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6EEB-3A0E-40D8-AB01-76806A95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D689-E538-4B38-B140-B4DBCD3E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7E0F-7198-49FC-89DD-C514FEFB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DD09-EBF5-4B2B-8A4C-E2B10B0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9FAC-AEA3-4C2F-948F-78BBBA87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1353-0BFD-47A8-B98D-0FEB960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6B9A-0D16-449E-954C-83502AB6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81C4-5683-4E60-85D2-B3285F87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637-257E-4097-B34C-6C42643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445D-3898-4FE2-843E-E8B31B34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A17C-F96A-47A2-A2A3-38EF8D34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BBDC-01F8-4DE0-BD77-0E6D3CD7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C632-3668-4F19-ACBF-627E104E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E773-3D71-4397-84A4-B106F1C2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2569-E32F-4C1A-BC80-99CE0353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A215-42C5-46B0-A5EA-B123656E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86FD-DF3E-47D7-BF69-D717D09B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4DF9-F8A7-4A0F-8534-3A4D2D1D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A866-374E-4ED2-AE08-BE3F10FB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34FE-DF20-4824-A893-D4817A44D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AC6A-785C-47CD-AD96-D425841FE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ffin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eak the Affine cipher all that is necessary is to find the substitution for two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ay plaintext “e” is represented in the ciphertext by “c” and plaintext “t” is represented in the ciphertext by “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substitutions define to affin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9720" y="4114800"/>
            <a:ext cx="80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= a*4 + b mod 26 (since e – character 4 is replaced by c – charac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= a*19 + b mod 26 (since t – character 19 is replaced by f – characte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3840" y="510552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the two equations for a and b results in the affine key (21,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affine eq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c = 21*p + 22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3275-A12D-4AA3-BF65-C974C186A2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solve the equations provided you find at least two correct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0572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81280" y="2971800"/>
            <a:ext cx="1295640" cy="685800"/>
          </a:xfrm>
          <a:prstGeom prst="wedgeRoundRectCallout">
            <a:avLst>
              <a:gd name="adj1" fmla="val -45953"/>
              <a:gd name="adj2" fmla="val 6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1295640" cy="380880"/>
          </a:xfrm>
          <a:prstGeom prst="wedgeRoundRectCallout">
            <a:avLst>
              <a:gd name="adj1" fmla="val -45953"/>
              <a:gd name="adj2" fmla="val 1658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on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905120" cy="1143000"/>
          </a:xfrm>
          <a:prstGeom prst="wedgeRoundRectCallout">
            <a:avLst>
              <a:gd name="adj1" fmla="val -47250"/>
              <a:gd name="adj2" fmla="val 88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appears to be plaintext then you wer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wise try another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5228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87CF-6D9D-4FD1-8FBB-352CEDB0B6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3T00:30:51Z</dcterms:modified>
  <cp:revision>31</cp:revision>
  <dc:subject/>
  <dc:title>CAP Cryptographic Analysis Program</dc:title>
</cp:coreProperties>
</file>